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media/image13.png" ContentType="image/png"/>
  <Override PartName="/ppt/media/image7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B963-BFCA-4CDC-AD4B-030B055E8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093D-E921-4126-8DE6-157BC27C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26C65F-3A98-42C2-AADE-0BF560480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F30B27-6106-4883-8DF7-EB12D96C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98E4EA-AF01-4C8D-BDA8-1F997B74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04A592-B99D-44C1-AC5F-117CC764E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0D6C78-1935-400B-8430-889D9506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9F5B04-0EAF-4545-8E22-7A6EF258D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A417D6-D356-4E86-8A38-7198BC3F5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B417F-4F6A-41A5-817F-D11F0D11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84DF47-39A9-4EC2-B4DE-324556F0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337F0A-80FD-4AAB-BE45-A8CD6788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EB12-A5B9-4812-BE9B-592CDD998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97BA7F7-D3E2-412F-919A-2B6679E3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216DC0-F7C8-40AE-B789-6EBEA64A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C07DE1-CC56-46F0-9974-44CA0514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940412-7419-4D7B-8355-D39760CEF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75A5DA-605F-4A0F-BE26-915CEF95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A419BF-B968-450F-9B73-8BECC5452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A4AC505-EB78-4AB1-A317-480F0139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D20EC4-9936-4D02-9B93-ECE992C2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CCE38D2-EEFC-423E-98CF-9E5A5499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A9900-6D4A-4A15-8204-48B45075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F25-63A8-4D96-AFA7-CAF166C97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55BCEB-148E-432D-AAAE-C1173678B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7FAD4F5-B4BA-42B6-83ED-B4890DEE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E4DD509-EFA8-4342-9633-8D8D8687E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81E02B-3A07-4DFE-B37D-38FFAED1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BAAEE6-F09F-427E-8AE2-D5ACF9FB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12A1EC-C862-49D1-BD7D-DC873E1EC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A83836-26A4-414D-9832-74573654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AA96D-8A88-409D-AC93-5693AED90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EB5149-D8CE-4580-88B5-1220641C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FF776C-DAA7-4107-B4F8-6B9179F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CEEE0-AC75-4FF9-8CED-AF3352BB15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528F8E-F031-4B78-B7BD-8B51000B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609F88-7642-4926-932E-D86E9D1ED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7083670-BFBC-42F2-8D97-38B98D040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46CE0A-4141-4F8E-8109-6C0167D5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1D01DAD-C8D1-41AC-8191-679FBC51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1E4D56-7787-41FC-A8C1-371849B0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28B12B-EE43-414C-91C9-7CDD5031A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EDC6CD4-E847-4ED4-9D46-937C49935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3FF0FF3-CA22-48B4-96B3-C9BBBF2C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86275C-8D6B-4BC6-851E-A71E5364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3B871B-6E4F-432B-9067-A8A061D6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53E725-008F-4F8A-9AA6-DD8EF056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8FECBC-49D6-4621-83D9-D3EF8B9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958528-77CB-44EB-8788-4FADA999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6171D4-B1C8-4739-9716-B09919DEA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6AF57A-19CF-4AA7-B3D2-E07129B4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9C28419-089A-47DF-920E-0B5AE7F4C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3DD353-8B8B-4345-A4FF-DD6602182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2B1F4B-37CF-4F7F-8B46-F9CF5D14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6BD6AEC-6AD0-45D4-82AA-AEF840FA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8B5648-E3CD-496C-97C4-703FD5646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7EE58A-5E67-4150-BD04-C123F65A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AD520EE-E78D-400C-8501-4174A98E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EFEB1D-CA5E-4A72-9762-DDF0E6AF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9DDEFAF-B24F-4984-ABEF-E4ACA623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2EEFACC-58BB-41F5-8E4F-8E62A44E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855EED-4FA2-429E-99BF-280F306E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28B3FB7-8942-4129-BFEC-ACF157C3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4B00D8-A001-43A6-B764-51FC599C1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AA8BBD2-E639-415D-91DE-BE18459CC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394F63C-902A-42E5-9F18-B6F68C4F7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A6F46AD-C651-4E77-BDD6-DB53E8D7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32511-A354-4DCF-B030-1420DA13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9CD0209-8C2E-43A0-A4FE-912896B8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4E943B7-A954-435B-9508-D17BEBD0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188B01-C925-478E-A302-EB15BFD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25B2262-67E3-4765-83DD-556FFD9F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C6F478-97F8-413B-913F-5F7FEFB5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187C16-AF5B-4A59-9240-E7D854943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AC45FA8-7F26-43AD-8BD9-6A328953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C3331FC-41AE-4299-88D2-F7ACC705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DBC18C-F297-4FF0-900F-5883BA2E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484B73-CA18-47B1-9C27-F76794758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C42374-BD3A-4344-9B74-0B81DDC9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C357336-73BD-4F65-B886-24BB03CE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B58DD23-61F8-464C-813B-29B4AC6E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26F56B7-7714-447A-9D4E-E6EDE85E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70D78F5-1A20-4B29-81C8-614862C0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2FDDC12-3CB4-4B48-8F8C-9B6BA430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28615ED-37C7-4F86-B97C-5F31EE2D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BC9B7D3-F028-45F8-9253-ABC8B1DF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CDB7BF7-431B-46C7-BC4A-29D1DD75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399ED3D-4E92-4A09-9759-65F44B16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AC88A88-56AB-4A97-ACA6-9A94BF26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6DA221-4647-4705-BE1B-A2941A4FC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A206C9A-FD90-4BC2-A65D-57DAE6B62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74BA4DB-3230-4B21-BD22-0F97D97E87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58EA97C-3758-4967-88FE-B26E7DD73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91C794F-AD9F-49B0-86AB-2D604BC5B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9D4738-4C17-4CAA-A1B1-291C9BCE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F88B3E2-FAE2-4566-87C5-0897EBB0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E13AFB2-0DFE-4B1D-B407-38784A28B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A04512B-BACB-44CC-92F2-9332D4F41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A05CA4-E650-44B4-A198-75DE4B4F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E901911-2154-4B23-BE23-D7995438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ABEB7-06AF-410D-B0D3-359A98FD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1BF81B-A093-4B4F-8C12-9DA7B618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854AAB-8F45-4D30-8AEE-4487E15D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8C71E5-8C53-4671-8155-CB545D3618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071A-B31A-475D-912E-F53A213B7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116735-C5EE-42B3-96D3-48B615366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99629-8E02-40A6-AFFF-A862EE67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BB446-30CF-4ADB-80EC-45C7F9AB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963AB0-78A7-4B06-909C-114B0A760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64AA5-402F-48D4-BD7C-6423298C8D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34F293-6E8D-4F48-89E0-04F028C2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DD9614-0DE2-4B45-B231-C1944B8CD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42622-3443-446B-91CF-61B27F8B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60023-7E02-4ABB-9234-6973AFFB0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791F6E-EBE3-42E6-AE6D-B1224AE6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95CE-761B-4DCD-BEB6-C9D37610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369C5D-837A-4865-8A61-73386CA72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D91BE-972F-4526-91FD-F9465E96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D4DA-1779-456C-8934-FECB7F81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ED892-FEB0-41E0-9610-5374F1C14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C65F40-29BD-4F51-B82D-64AB7E87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D7B0C-0B1D-4D97-9DAD-DA2CF3434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512259-B418-46CA-BAAB-C8191635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5F07-4681-4A10-A310-CF39E49F9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D641-FB32-4249-8A60-C7CB14E80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AE8-777B-4016-A1AC-83A3D6EC8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54E50D-5051-424E-B9C6-04767F34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B73883-6E52-4997-9D13-A58681554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1180CA-0F2E-420D-BCD9-BA0F0D93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C32D3-EDC2-41A6-B2A9-FB20D713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28E495-500F-458A-8CEB-57D8D0228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15082B-B319-4297-969E-DD5F818E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68227D3-B0E8-4C5E-A2D6-2EEE220C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117C45-93AF-42F2-8C71-BFDC6F48A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C0186F-C71F-46D4-91CD-93B39218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4F0-E83B-42E1-98EF-50C53E83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4FDC5C-0A96-41A9-AA93-3C44AF9BF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B95AA3-DA28-4C6F-9289-369181F05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025C14-688D-497F-B106-500508C8D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02C25B-9E75-4F1E-AD90-0B4095463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04EDC-A05C-4FF5-BA1D-9FB7F246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F9F774-7624-4433-8491-BA51E309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93863D-3CE8-4DC2-83D4-C112A598D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BACE95-B84F-4CF3-B6AA-9A510FF6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4713F1-C843-449B-8687-6ED6433A4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EBFD4-371A-4D22-B6AE-9D79D920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174D-7B9D-4A65-93E6-C9FB1286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D0BE6-5BB1-4865-96A2-3D50019D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8F6AF2-CCDD-4C49-9C5F-29D30DA6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0625351-275D-477E-AE4F-2404E1DE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67C5C-7281-4628-AA7F-D69EC6FEC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3079B2-285C-447B-B64E-E648D4DED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184E23-1506-40B4-A496-FA42B3B8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353CFA-A143-4465-94E2-DDCD2D73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69AE2E-2314-4A8E-9242-F96897D6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50EF15-8975-41E4-8C7E-D53C8EAC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F182016-8672-45AD-A890-87198DD6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A85-20D2-473A-916E-DD1A468F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4B06F5-F1CB-4F40-BAC0-2EACC003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5B728A-1083-4BD8-A222-E1761C0F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154F78-8946-46BB-B47E-BB0FDAFD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7DA189-C351-40F1-B559-877B9EB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376367A-A7B2-47AE-B418-9B6044B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9CFC65-165B-4912-A254-924FDEB7B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577AB3-B8EA-40DE-9D89-7DD06F37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18C18A-811A-4B4A-BD77-59221B2CB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807E90-8F19-43FF-826A-B3D3BB905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E3D3B0-8984-4A75-B7B6-6867235EE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BA79-7A1C-4059-AD4D-1D0787A8FDF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72AF-1C0F-459C-B7A2-475D59A53DC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664A-6B9D-4B34-BC23-3DE4F0A5A6A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E5B30-B6E5-4AFD-96AC-90FEDA977E0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839E-3DEE-429B-841D-DDE1F3E286F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055-4F5D-4DE4-BBAA-E4A945DBE5B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833BC-6509-43B3-AA41-8AA5A6C375D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2188-D9EA-42B8-AF21-35645403038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2C83-74C7-4482-8EF4-985CBB4AEB9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5B74-0280-496A-9439-F9B518B7F13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468D-D8F5-41C9-8945-FD797A436D29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E57D-C663-41F5-9B27-936C87E83A3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F021-79F3-4F8C-9FCE-866805C5C72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B87F-876F-49EF-AD86-E76126D8306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7F935-00D1-421F-9B39-401021AB7DF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9661-8123-4549-BF71-E0B57310DBD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67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69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9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0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1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2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3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4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5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6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7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1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2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3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4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5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6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7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7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BB41C-4E53-4BFF-B7C3-AA3A8318AFA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60213-6FD9-4F29-BF66-FE7C77AAAEA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E7741-397B-4799-9239-3B588A9BC7B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545B-6F03-4801-A106-15B31C06662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1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1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9D73-023D-4515-B57B-75958B6014B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5E84-B754-40B4-9FF4-48687517D87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4EB5-CB78-4001-A358-71BF5D09483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9C66-2A54-4948-925E-25663B3D29D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E167-019B-4050-80DE-9669CEDA4D3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5509A-6E6E-42DA-9308-80EDA8DA7FB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63DA1-7726-491C-B4D3-A1F6323916F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0988-8889-46EE-A360-ED14743F3EE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50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51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53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4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85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0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861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3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8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7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868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9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0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1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2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3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4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5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6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77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87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81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88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8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89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89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93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89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0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901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3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90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Eskom CentralEast Supplier Development Localization and Industrialization (SDL&amp;I) (KZN &amp; FS) Substation Building Maintenance Services &amp;Tower Foundation Repairs Clarification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Gwendeline Alexander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21 November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Checklist – This check list can be used for guidance on submission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80FA-6EB5-4499-B190-2BD83AD65E4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0722-CB85-4084-8460-13F95F96C09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684360" y="1700280"/>
          <a:ext cx="7200720" cy="4249800"/>
        </p:xfrm>
        <a:graphic>
          <a:graphicData uri="http://schemas.openxmlformats.org/drawingml/2006/table">
            <a:tbl>
              <a:tblPr/>
              <a:tblGrid>
                <a:gridCol w="231480"/>
                <a:gridCol w="5670720"/>
                <a:gridCol w="1298520"/>
              </a:tblGrid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Document to complete and/or to subm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Tick Box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worn Affidavit or</a:t>
                      </a:r>
                      <a:r>
                        <a:rPr b="1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Certified</a:t>
                      </a: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BBBEE Certificate (Mandatory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CIPC Registration Documen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Identity Documents of owners of Company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hares Certificate where applicable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Jobs Created and Jobs Retained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kills Targets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2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igned Commitment Letter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Latest Financial Statements corresponding to the financial date reflected on the sworn affidavit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4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7" name="Rectangle 59"/>
          <p:cNvSpPr/>
          <p:nvPr/>
        </p:nvSpPr>
        <p:spPr>
          <a:xfrm>
            <a:off x="-1992240" y="0"/>
            <a:ext cx="1199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37913-EC38-4CAD-93F0-7686C5C39FC7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DDBD3-9CD3-4FAF-A4CA-1AC2E4C620F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36320" y="1125000"/>
            <a:ext cx="852804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  <a:ea typeface="Times New Roman"/>
              </a:rPr>
              <a:t>NO PREQUALIFICATION CRITERIA: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This enquiry is open to EME, QSE and LME 1 and 2 Service Providers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REQUIREM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All Tenderers must submit proof of their BBBEE Status based on the turnover on their Financial Statements (this is to verify that you are submitting the correct sworn affidavit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EME - Valid copy of  Sworn Affidavit or valid copy of BBBEE Certificate issued by CIPC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QSE - Valid copy of Sworn Affidavit/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LME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Joint Ventures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</a:t>
            </a: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  - the certificate must be in the name of the joint venture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82087-7EF8-4BC9-914C-A78C5C5DEEDC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C05C9-D9A8-4207-BCC6-4C1587C455C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e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financial statements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  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44DB7-0510-437A-80D4-04D3DBAD1F3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D19BB-C470-4533-801C-35A7E10046C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 - pag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636040" cy="5596200"/>
          </a:xfrm>
          <a:prstGeom prst="rect">
            <a:avLst/>
          </a:prstGeom>
          <a:ln w="0">
            <a:noFill/>
          </a:ln>
        </p:spPr>
      </p:pic>
      <p:sp>
        <p:nvSpPr>
          <p:cNvPr id="91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154A-7E02-4A22-94EE-D4028E2791BA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2A6C-A4F9-4D1C-BD67-9AD5FBF305F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– pag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486640" cy="5565960"/>
          </a:xfrm>
          <a:prstGeom prst="rect">
            <a:avLst/>
          </a:prstGeom>
          <a:ln w="0">
            <a:noFill/>
          </a:ln>
        </p:spPr>
      </p:pic>
      <p:sp>
        <p:nvSpPr>
          <p:cNvPr id="92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F0B7-9037-4236-99ED-BB5C236CE1C8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6C6F-6783-449C-BE8A-FB06C1B6AAA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BBEE Certificate for Exempted Micro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Content Placeholder 5" descr=""/>
          <p:cNvPicPr/>
          <p:nvPr/>
        </p:nvPicPr>
        <p:blipFill>
          <a:blip r:embed="rId1"/>
          <a:stretch/>
        </p:blipFill>
        <p:spPr>
          <a:xfrm>
            <a:off x="2828880" y="1436760"/>
            <a:ext cx="3594240" cy="5045040"/>
          </a:xfrm>
          <a:prstGeom prst="rect">
            <a:avLst/>
          </a:prstGeom>
          <a:ln w="0">
            <a:noFill/>
          </a:ln>
        </p:spPr>
      </p:pic>
      <p:sp>
        <p:nvSpPr>
          <p:cNvPr id="92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5322C-963F-4039-A6F7-2813265DBBD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B8915-0711-4203-8EC6-11A8B2BAA61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EE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5221-CC9C-469F-905B-006BF6B8C42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30DC6-13B9-44D7-BCF6-54DDF94B608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932" name="Content Placeholder 7" descr=""/>
          <p:cNvPicPr/>
          <p:nvPr/>
        </p:nvPicPr>
        <p:blipFill>
          <a:blip r:embed="rId1"/>
          <a:stretch/>
        </p:blipFill>
        <p:spPr>
          <a:xfrm>
            <a:off x="2676600" y="1436760"/>
            <a:ext cx="38988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s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A737-F53C-4555-9BE3-AF9E90AB7D9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ECD5-1300-457C-B545-97D8B262C3D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All Service Providers to propose targets against the Eskom targe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Contractors Letter to Commitment to SDL&amp;I Requirements to be completed and signed 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900000" y="2962440"/>
            <a:ext cx="1016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96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900000" y="2205000"/>
          <a:ext cx="7344000" cy="279072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5716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kom Target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derer Proposal</a:t>
                      </a:r>
                      <a:endParaRPr b="0" lang="en-US" sz="10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9795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3/Matric Electrical Engineering technician/ Learnership (Course Certificate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3/Matric Civil Engineering technician/Learnership (Course Certificate)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Requirements to be Submit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IPC Docu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hareholder’s Certificate/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dentity Documents of Owner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bs Created and Retai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E34B-8063-48C2-960B-1B3139162438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8555-838F-4A16-8E4F-A87421B35EC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Anita Rickhoff</cp:lastModifiedBy>
  <cp:lastPrinted>2018-11-13T06:26:01Z</cp:lastPrinted>
  <dcterms:modified xsi:type="dcterms:W3CDTF">2022-11-21T09:44:53Z</dcterms:modified>
  <cp:revision>85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dd17a35c-9c67-4dda-b948-74ee3b80cf57_Application">
    <vt:lpwstr>Microsoft Azure Information Protection</vt:lpwstr>
  </property>
  <property fmtid="{D5CDD505-2E9C-101B-9397-08002B2CF9AE}" pid="3" name="MSIP_Label_dd17a35c-9c67-4dda-b948-74ee3b80cf57_Enabled">
    <vt:lpwstr>True</vt:lpwstr>
  </property>
  <property fmtid="{D5CDD505-2E9C-101B-9397-08002B2CF9AE}" pid="4" name="MSIP_Label_dd17a35c-9c67-4dda-b948-74ee3b80cf57_Extended_MSFT_Method">
    <vt:lpwstr>Manual</vt:lpwstr>
  </property>
  <property fmtid="{D5CDD505-2E9C-101B-9397-08002B2CF9AE}" pid="5" name="MSIP_Label_dd17a35c-9c67-4dda-b948-74ee3b80cf57_Name">
    <vt:lpwstr>Public</vt:lpwstr>
  </property>
  <property fmtid="{D5CDD505-2E9C-101B-9397-08002B2CF9AE}" pid="6" name="MSIP_Label_dd17a35c-9c67-4dda-b948-74ee3b80cf57_Ref">
    <vt:lpwstr>https://api.informationprotection.azure.com/api/93aedbdc-cc67-4652-aa12-d250a876ae79</vt:lpwstr>
  </property>
  <property fmtid="{D5CDD505-2E9C-101B-9397-08002B2CF9AE}" pid="7" name="MSIP_Label_dd17a35c-9c67-4dda-b948-74ee3b80cf57_SetBy">
    <vt:lpwstr>EdmundDH@eskom.co.za</vt:lpwstr>
  </property>
  <property fmtid="{D5CDD505-2E9C-101B-9397-08002B2CF9AE}" pid="8" name="MSIP_Label_dd17a35c-9c67-4dda-b948-74ee3b80cf57_SetDate">
    <vt:lpwstr>2020-11-26T14:18:48.2663455+02:00</vt:lpwstr>
  </property>
  <property fmtid="{D5CDD505-2E9C-101B-9397-08002B2CF9AE}" pid="9" name="MSIP_Label_dd17a35c-9c67-4dda-b948-74ee3b80cf57_SiteId">
    <vt:lpwstr>93aedbdc-cc67-4652-aa12-d250a876ae79</vt:lpwstr>
  </property>
  <property fmtid="{D5CDD505-2E9C-101B-9397-08002B2CF9AE}" pid="10" name="Sensitivity">
    <vt:lpwstr>Public</vt:lpwstr>
  </property>
</Properties>
</file>